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275-6D01-4079-A32B-CFC97BAB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DED-133D-416B-B0AA-4BC2C4A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110-DA4E-4E7A-B53E-181B42A6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D4F-E7C1-42D8-A0FA-2EC8CBC7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CB9-E3C9-47AF-927C-BD929677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85F-1084-4810-9464-09054D81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39A-9DA3-4E27-BC42-5772271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AA2-4859-4D97-8FEB-CE6691A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EB6-6A22-4514-983B-72CE8449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758-08DE-400F-BFA7-5C595E77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7F4-8FAD-4205-A7EF-6FC8422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4B1-3B09-4E73-AFE9-9A4B2BF8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7F6F-71EC-4449-B88B-001BC6061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Владелец\Desktop\На сайт\Открытка\Слайд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Владелец\Desktop\На сайт\Открытка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Владелец\Desktop\На сайт\Открытка\Слайд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Владелец\Desktop\На сайт\Открытка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Users\Владелец\Desktop\На сайт\Открытк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Владелец\Desktop\На сайт\Открытка\Слайд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Владелец\Desktop\На сайт\Открытка\Слайд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Владелец\Desktop\На сайт\Открытка\Слайд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Владелец\Desktop\На сайт\Открытка\Слай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Владелец\Desktop\На сайт\Открытка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Владелец\Desktop\На сайт\Открытка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Владелец\Desktop\На сайт\Открытк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Владелец\Desktop\На сайт\Открытк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Владелец\Desktop\На сайт\Открытк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Владелец\Desktop\На сайт\Открытка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Владелец\Desktop\На сайт\Открытка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5T10:02:13Z</dcterms:created>
  <dc:creator>Владелец</dc:creator>
  <dc:description/>
  <dc:language>en-US</dc:language>
  <cp:lastModifiedBy>Владелец</cp:lastModifiedBy>
  <dcterms:modified xsi:type="dcterms:W3CDTF">2019-05-15T10:08:03Z</dcterms:modified>
  <cp:revision>2</cp:revision>
  <dc:subject/>
  <dc:title>Слайд 1</dc:title>
</cp:coreProperties>
</file>